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24A2-A7F2-47C4-ACC6-FFF72ABDE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6222-AD63-4799-84B7-4471A0EA6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97DF-81F7-446D-8BE1-26D41F2FE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967D-EE97-4142-A655-488D67891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99E4-27AF-4BCB-875D-DC4C0A54E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FD8B-9677-4BA2-A546-F7DF27F00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61AB-4484-4653-A740-AE90E0DE0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279A-B8B9-443D-95B0-298DA0489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242A-41DB-4CEE-A731-160C6A515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C3DC-593D-41AF-8BA8-A9348CC8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A284-E5A4-402A-9E11-7637814E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FC0C-ACDF-44DD-9015-0E14BBC9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2233B-8AEF-4302-95A7-6635725379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2.pct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2.pct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14400" y="2209680"/>
            <a:ext cx="3141720" cy="32529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257800" y="2133720"/>
            <a:ext cx="2028960" cy="2651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600200" y="121932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Cooper Black"/>
              </a:rPr>
              <a:t>THE BUSINE$$ OF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343400" y="2666880"/>
            <a:ext cx="3543480" cy="146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22320">
                  <a:solidFill>
                    <a:srgbClr val="0000ff"/>
                  </a:solidFill>
                  <a:miter/>
                </a:ln>
                <a:solidFill>
                  <a:srgbClr val="99cc00"/>
                </a:solidFill>
                <a:latin typeface="Impact"/>
              </a:rPr>
              <a:t>CELL</a:t>
            </a:r>
            <a:endParaRPr b="0" lang="en-US" sz="9600" spc="1" strike="noStrike">
              <a:ln w="22320">
                <a:solidFill>
                  <a:srgbClr val="0000ff"/>
                </a:solidFill>
                <a:miter/>
              </a:ln>
              <a:solidFill>
                <a:srgbClr val="99cc00"/>
              </a:solidFill>
              <a:latin typeface="Impact"/>
              <a:ea typeface="Impact"/>
            </a:endParaRPr>
          </a:p>
        </p:txBody>
      </p:sp>
      <p:sp>
        <p:nvSpPr>
          <p:cNvPr id="45" name=""/>
          <p:cNvSpPr/>
          <p:nvPr/>
        </p:nvSpPr>
        <p:spPr>
          <a:xfrm>
            <a:off x="5029200" y="54100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: 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1473480" cy="14097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Cooper Black"/>
              </a:rPr>
              <a:t>THE BUSINE$$ OF THE C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772400" y="228600"/>
            <a:ext cx="1001880" cy="1309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62120" y="144792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CLEUS is like the Chief Executive Offi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457200" y="2590920"/>
            <a:ext cx="8381880" cy="3886200"/>
            <a:chOff x="457200" y="2590920"/>
            <a:chExt cx="8381880" cy="3886200"/>
          </a:xfrm>
        </p:grpSpPr>
        <p:sp>
          <p:nvSpPr>
            <p:cNvPr id="51" name=""/>
            <p:cNvSpPr/>
            <p:nvPr/>
          </p:nvSpPr>
          <p:spPr>
            <a:xfrm>
              <a:off x="457200" y="2590920"/>
              <a:ext cx="5867280" cy="38862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124080" y="2590920"/>
              <a:ext cx="5715000" cy="38862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990720" y="22860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 is Nucleus Diffe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00800" y="228600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 is the CEO Diffe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228600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 are they the s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2895480"/>
            <a:ext cx="3124440" cy="38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oth control their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are  “brains of the operation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hold the plan for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hout them nothing wo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are essential for all ope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400800" y="2666880"/>
            <a:ext cx="1168560" cy="11401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400800" y="3886200"/>
            <a:ext cx="236232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to communicate to the outsid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ds meetings and listens to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hange the company based on needs to surv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3962520"/>
            <a:ext cx="2590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deals with things intern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s all decisions for the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not adapt to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971800" y="914400"/>
            <a:ext cx="236232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empla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1473480" cy="14097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Cooper Black"/>
              </a:rPr>
              <a:t>THE BUSINE$$ OF THE C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772400" y="228600"/>
            <a:ext cx="1001880" cy="13096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62120" y="144792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CLEUS is like the Chief Executive Offi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57200" y="2590920"/>
            <a:ext cx="8381880" cy="3886200"/>
            <a:chOff x="457200" y="2590920"/>
            <a:chExt cx="8381880" cy="3886200"/>
          </a:xfrm>
        </p:grpSpPr>
        <p:sp>
          <p:nvSpPr>
            <p:cNvPr id="66" name=""/>
            <p:cNvSpPr/>
            <p:nvPr/>
          </p:nvSpPr>
          <p:spPr>
            <a:xfrm>
              <a:off x="457200" y="2590920"/>
              <a:ext cx="5867280" cy="38862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124080" y="2590920"/>
              <a:ext cx="5715000" cy="38862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990720" y="22860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 is Nucleus Diffe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400800" y="228600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 is the CEO Diffe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57600" y="228600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 are they the s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124080" y="2895480"/>
            <a:ext cx="3124440" cy="29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are  “brains of the operation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hold the plan for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hout them nothing wo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6400800" y="2666880"/>
            <a:ext cx="1168560" cy="11401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400800" y="3886200"/>
            <a:ext cx="2362320" cy="11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to communicate to the outsid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ds meet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s company bas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3962520"/>
            <a:ext cx="2590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deals with things intern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s all decisions for the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200400" y="1676520"/>
            <a:ext cx="243828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roficie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7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770" fill="hold"/>
                                        <p:tgtEl>
                                          <p:spTgt spid="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" dur="77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1473480" cy="140976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Cooper Black"/>
              </a:rPr>
              <a:t>THE BUSINE$$ OF THE C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772400" y="228600"/>
            <a:ext cx="1001880" cy="13096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762120" y="144792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CLEUS is like the Chief Executive Offi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457200" y="2590920"/>
            <a:ext cx="8381880" cy="3886200"/>
            <a:chOff x="457200" y="2590920"/>
            <a:chExt cx="8381880" cy="3886200"/>
          </a:xfrm>
        </p:grpSpPr>
        <p:sp>
          <p:nvSpPr>
            <p:cNvPr id="81" name=""/>
            <p:cNvSpPr/>
            <p:nvPr/>
          </p:nvSpPr>
          <p:spPr>
            <a:xfrm>
              <a:off x="457200" y="2590920"/>
              <a:ext cx="5867280" cy="38862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124080" y="2590920"/>
              <a:ext cx="5715000" cy="38862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990720" y="22860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 is Nucleus Diffe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400800" y="228600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 is the CEO Diffe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57600" y="228600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 are they the s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24080" y="2895480"/>
            <a:ext cx="3124440" cy="33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oth control their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are  “brains of the operation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3886200"/>
            <a:ext cx="2362320" cy="7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3962520"/>
            <a:ext cx="2590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s all decisions for the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048120" y="1676520"/>
            <a:ext cx="28191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ncomplet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77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770" fill="hold"/>
                                        <p:tgtEl>
                                          <p:spTgt spid="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" dur="77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" dur="77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Cooper Black"/>
              </a:rPr>
              <a:t>THE BUSINE$$ OF THE C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772400" y="228600"/>
            <a:ext cx="1001880" cy="13096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62120" y="14479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57200" y="2590920"/>
            <a:ext cx="8381880" cy="3886200"/>
            <a:chOff x="457200" y="2590920"/>
            <a:chExt cx="8381880" cy="3886200"/>
          </a:xfrm>
        </p:grpSpPr>
        <p:sp>
          <p:nvSpPr>
            <p:cNvPr id="94" name=""/>
            <p:cNvSpPr/>
            <p:nvPr/>
          </p:nvSpPr>
          <p:spPr>
            <a:xfrm>
              <a:off x="457200" y="2590920"/>
              <a:ext cx="5867280" cy="38862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124080" y="2590920"/>
              <a:ext cx="5715000" cy="38862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990720" y="22860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 is ? Diffe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248520" y="228600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 is the ? Diffe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657600" y="228600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 are they the s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14600" y="2133720"/>
            <a:ext cx="4648320" cy="28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ample of Templet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77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770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0T19:15:50Z</dcterms:created>
  <dc:creator>Century High School</dc:creator>
  <dc:description/>
  <dc:language>en-US</dc:language>
  <cp:lastModifiedBy>Ruth Abatzoglou</cp:lastModifiedBy>
  <dcterms:modified xsi:type="dcterms:W3CDTF">2009-06-19T20:51:14Z</dcterms:modified>
  <cp:revision>7</cp:revision>
  <dc:subject/>
  <dc:title>PowerPoint Presentation</dc:title>
</cp:coreProperties>
</file>